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942-E372-4D0D-B8B9-C79ADA4A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25D-A4E1-44C1-AE12-CB9960B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222-AC8B-420F-9641-CF9985C6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B52-2B8F-4321-87CE-9EA21037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61E5-4F75-492E-8BF5-72392B1E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17A5-C2C6-4B51-B9B1-861EB99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40C-7235-442C-B050-B726C00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A029-C23B-4C91-9A0E-1503A46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9F3-C940-425A-AA2C-CCA6C0D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28560" y="507960"/>
            <a:ext cx="788688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0032-BA6B-4843-AF10-E7A17C1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0F2C-FE99-4D1E-96CD-F0F5B4D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DD4-D019-43D8-9E42-D6C3546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8D7-942E-4FAA-8F3E-67A2265D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11E0-CCD1-46AE-A4BA-1085FF8D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441C-4CB8-468A-8531-98D92CA5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CF35-5BA3-4C45-A3FC-DBF7FBBF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2835-610B-4B53-B36F-7228E21B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123C-9BFC-450A-A350-E4917FA4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8562-E6CF-4E2C-8702-E5B53D6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7379-8A8F-4DBF-81E7-8F5072A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216E-B6B1-48D2-B4F9-97B40A0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54CB-3B67-4DB3-A054-E708192C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B5F-6B3B-41DE-835E-A47182E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28560" y="507960"/>
            <a:ext cx="788688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9D14-4106-47D6-A960-07481E34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C80B-31B5-4719-AB18-99DB442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689C-2DD1-4F26-9AB9-BA06809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7D23-5B32-442A-A8FB-9CA8EAD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9D96-7403-43C2-AA02-350D4ADE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25EC-70CC-48B4-9DC1-6401AF4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A401-60C2-49DE-9CC1-B34EABC8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6879-2551-4FCA-B5CF-A4C2ED2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25B6-7AB3-4802-9D74-BE62354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A80B-F701-46BC-AB4F-559EAE38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6B4-54A0-4D5B-9886-37147EEF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50DE-3B80-4AC0-9B82-3D833650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04A2-9C02-468C-8854-1734AB8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28560" y="507960"/>
            <a:ext cx="788688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A8B0-D5AE-4F90-BA5D-26800FA7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2F5E-DF52-458B-B33B-CAB2430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941F-6461-4655-8E5C-B43DBE6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E97C-E9FC-4FAF-BF59-C89CD15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A3AC-E85D-48EB-912E-F2FB67AA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F25C-28F6-4AFF-880E-56CA207C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A01D7-66DC-4E75-B168-B27E814F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BC5D-AEFF-4E32-AF3E-11DF3A9D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773-C43E-4198-B37F-8D3FF6E7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85AC-E220-4642-97F1-EE05187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5DD0-8659-4185-9E9F-44566139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21610-2261-4440-9F48-9B5027D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ED70-3CDE-4C90-95C4-EE81FC8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8560" y="507960"/>
            <a:ext cx="788688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BBDE-C9ED-475A-9689-1646DFA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7C59-7F19-4DEC-86AE-88B6905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36B8-F9D5-4350-8430-89BA689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2129-C429-42F4-A42A-FAF63DD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674C-8DF3-4556-9BB8-204917EE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7891B-9C7A-41E2-834C-9E748E82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507960"/>
            <a:ext cx="788688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5C0-7A99-448F-A952-C1198F0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DD4B-C055-4C9A-8CB9-26AFF8DC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790-35EA-4580-8872-DC1A6ED7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810-A044-401B-9C06-CB0FDD2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EF3-78E2-4349-A52F-DA11064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"/>
          <p:cNvGrpSpPr/>
          <p:nvPr/>
        </p:nvGrpSpPr>
        <p:grpSpPr>
          <a:xfrm>
            <a:off x="7400880" y="6091560"/>
            <a:ext cx="1743120" cy="766440"/>
            <a:chOff x="7400880" y="6091560"/>
            <a:chExt cx="1743120" cy="766440"/>
          </a:xfrm>
        </p:grpSpPr>
        <p:sp>
          <p:nvSpPr>
            <p:cNvPr id="1" name="等腰三角形 6"/>
            <p:cNvSpPr/>
            <p:nvPr/>
          </p:nvSpPr>
          <p:spPr>
            <a:xfrm rot="10800000">
              <a:off x="7574040" y="6187680"/>
              <a:ext cx="1569960" cy="67032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2" name="直接连接符 14"/>
            <p:cNvSpPr/>
            <p:nvPr/>
          </p:nvSpPr>
          <p:spPr>
            <a:xfrm flipH="1">
              <a:off x="7400880" y="6091560"/>
              <a:ext cx="1737000" cy="74484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grpSp>
        <p:nvGrpSpPr>
          <p:cNvPr id="3" name="组合 15"/>
          <p:cNvGrpSpPr/>
          <p:nvPr/>
        </p:nvGrpSpPr>
        <p:grpSpPr>
          <a:xfrm>
            <a:off x="0" y="0"/>
            <a:ext cx="1743120" cy="766800"/>
            <a:chOff x="0" y="0"/>
            <a:chExt cx="1743120" cy="766800"/>
          </a:xfrm>
        </p:grpSpPr>
        <p:sp>
          <p:nvSpPr>
            <p:cNvPr id="4" name="等腰三角形 6"/>
            <p:cNvSpPr/>
            <p:nvPr/>
          </p:nvSpPr>
          <p:spPr>
            <a:xfrm>
              <a:off x="0" y="0"/>
              <a:ext cx="1567080" cy="67320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5" name="直接连接符 17"/>
            <p:cNvSpPr/>
            <p:nvPr/>
          </p:nvSpPr>
          <p:spPr>
            <a:xfrm flipV="1">
              <a:off x="9360" y="18720"/>
              <a:ext cx="1733760" cy="74808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FE43-3CFC-4AF8-8D1F-AF71DA69BD2E}" type="slidenum">
              <a:rPr b="0" lang="zh-CN" sz="1200" spc="-1" strike="noStrike">
                <a:solidFill>
                  <a:srgbClr val="ababa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2"/>
          <p:cNvGrpSpPr/>
          <p:nvPr/>
        </p:nvGrpSpPr>
        <p:grpSpPr>
          <a:xfrm>
            <a:off x="7400880" y="6091560"/>
            <a:ext cx="1743120" cy="766440"/>
            <a:chOff x="7400880" y="6091560"/>
            <a:chExt cx="1743120" cy="766440"/>
          </a:xfrm>
        </p:grpSpPr>
        <p:sp>
          <p:nvSpPr>
            <p:cNvPr id="48" name="等腰三角形 6"/>
            <p:cNvSpPr/>
            <p:nvPr/>
          </p:nvSpPr>
          <p:spPr>
            <a:xfrm rot="10800000">
              <a:off x="7574040" y="6187680"/>
              <a:ext cx="1569960" cy="67032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49" name="直接连接符 14"/>
            <p:cNvSpPr/>
            <p:nvPr/>
          </p:nvSpPr>
          <p:spPr>
            <a:xfrm flipH="1">
              <a:off x="7400880" y="6091560"/>
              <a:ext cx="1737000" cy="74484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grpSp>
        <p:nvGrpSpPr>
          <p:cNvPr id="50" name="组合 15"/>
          <p:cNvGrpSpPr/>
          <p:nvPr/>
        </p:nvGrpSpPr>
        <p:grpSpPr>
          <a:xfrm>
            <a:off x="0" y="0"/>
            <a:ext cx="1743120" cy="766800"/>
            <a:chOff x="0" y="0"/>
            <a:chExt cx="1743120" cy="766800"/>
          </a:xfrm>
        </p:grpSpPr>
        <p:sp>
          <p:nvSpPr>
            <p:cNvPr id="51" name="等腰三角形 6"/>
            <p:cNvSpPr/>
            <p:nvPr/>
          </p:nvSpPr>
          <p:spPr>
            <a:xfrm>
              <a:off x="0" y="0"/>
              <a:ext cx="1567080" cy="67320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52" name="直接连接符 17"/>
            <p:cNvSpPr/>
            <p:nvPr/>
          </p:nvSpPr>
          <p:spPr>
            <a:xfrm flipV="1">
              <a:off x="9360" y="18720"/>
              <a:ext cx="1733760" cy="74808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pic>
        <p:nvPicPr>
          <p:cNvPr id="53" name="图片 7" descr=""/>
          <p:cNvPicPr/>
          <p:nvPr/>
        </p:nvPicPr>
        <p:blipFill>
          <a:blip r:embed="rId3"/>
          <a:srcRect l="2616" t="0" r="7244" b="0"/>
          <a:stretch/>
        </p:blipFill>
        <p:spPr>
          <a:xfrm>
            <a:off x="0" y="-371520"/>
            <a:ext cx="4060800" cy="7229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9938-8BE6-4D1E-B2C3-CE79DE61A37B}" type="slidenum">
              <a:rPr b="0" lang="zh-CN" sz="1200" spc="-1" strike="noStrike">
                <a:solidFill>
                  <a:srgbClr val="ababa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2"/>
          <p:cNvGrpSpPr/>
          <p:nvPr/>
        </p:nvGrpSpPr>
        <p:grpSpPr>
          <a:xfrm>
            <a:off x="7400880" y="6091560"/>
            <a:ext cx="1743120" cy="766440"/>
            <a:chOff x="7400880" y="6091560"/>
            <a:chExt cx="1743120" cy="766440"/>
          </a:xfrm>
        </p:grpSpPr>
        <p:sp>
          <p:nvSpPr>
            <p:cNvPr id="96" name="等腰三角形 6"/>
            <p:cNvSpPr/>
            <p:nvPr/>
          </p:nvSpPr>
          <p:spPr>
            <a:xfrm rot="10800000">
              <a:off x="7574040" y="6187680"/>
              <a:ext cx="1569960" cy="67032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97" name="直接连接符 14"/>
            <p:cNvSpPr/>
            <p:nvPr/>
          </p:nvSpPr>
          <p:spPr>
            <a:xfrm flipH="1">
              <a:off x="7400880" y="6091560"/>
              <a:ext cx="1737000" cy="74484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grpSp>
        <p:nvGrpSpPr>
          <p:cNvPr id="98" name="组合 15"/>
          <p:cNvGrpSpPr/>
          <p:nvPr/>
        </p:nvGrpSpPr>
        <p:grpSpPr>
          <a:xfrm>
            <a:off x="0" y="0"/>
            <a:ext cx="1743120" cy="766800"/>
            <a:chOff x="0" y="0"/>
            <a:chExt cx="1743120" cy="766800"/>
          </a:xfrm>
        </p:grpSpPr>
        <p:sp>
          <p:nvSpPr>
            <p:cNvPr id="99" name="等腰三角形 6"/>
            <p:cNvSpPr/>
            <p:nvPr/>
          </p:nvSpPr>
          <p:spPr>
            <a:xfrm>
              <a:off x="0" y="0"/>
              <a:ext cx="1567080" cy="67320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0" name="直接连接符 17"/>
            <p:cNvSpPr/>
            <p:nvPr/>
          </p:nvSpPr>
          <p:spPr>
            <a:xfrm flipV="1">
              <a:off x="9360" y="18720"/>
              <a:ext cx="1733760" cy="74808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01" name="等腰三角形 6"/>
          <p:cNvSpPr/>
          <p:nvPr/>
        </p:nvSpPr>
        <p:spPr>
          <a:xfrm rot="18210000">
            <a:off x="6860160" y="2863080"/>
            <a:ext cx="54000" cy="109800"/>
          </a:xfrm>
          <a:prstGeom prst="triangle">
            <a:avLst>
              <a:gd name="adj" fmla="val 50000"/>
            </a:avLst>
          </a:prstGeom>
          <a:solidFill>
            <a:srgbClr val="c8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" name="Straight Connector 13"/>
          <p:cNvSpPr/>
          <p:nvPr/>
        </p:nvSpPr>
        <p:spPr>
          <a:xfrm flipH="1">
            <a:off x="-360" y="3716280"/>
            <a:ext cx="6948360" cy="0"/>
          </a:xfrm>
          <a:prstGeom prst="line">
            <a:avLst/>
          </a:prstGeom>
          <a:ln cap="sq" w="19080">
            <a:solidFill>
              <a:srgbClr val="018be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03" name="组合 20"/>
          <p:cNvGrpSpPr/>
          <p:nvPr/>
        </p:nvGrpSpPr>
        <p:grpSpPr>
          <a:xfrm>
            <a:off x="6897240" y="1747800"/>
            <a:ext cx="1703160" cy="2150280"/>
            <a:chOff x="6897240" y="1747800"/>
            <a:chExt cx="1703160" cy="2150280"/>
          </a:xfrm>
        </p:grpSpPr>
        <p:sp>
          <p:nvSpPr>
            <p:cNvPr id="104" name="等腰三角形 21"/>
            <p:cNvSpPr/>
            <p:nvPr/>
          </p:nvSpPr>
          <p:spPr>
            <a:xfrm rot="9232800">
              <a:off x="7757640" y="215892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c8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5" name="等腰三角形 22"/>
            <p:cNvSpPr/>
            <p:nvPr/>
          </p:nvSpPr>
          <p:spPr>
            <a:xfrm rot="15569400">
              <a:off x="7344360" y="2763000"/>
              <a:ext cx="295200" cy="255600"/>
            </a:xfrm>
            <a:prstGeom prst="triangle">
              <a:avLst>
                <a:gd name="adj" fmla="val 50000"/>
              </a:avLst>
            </a:prstGeom>
            <a:solidFill>
              <a:srgbClr val="5ab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6" name="等腰三角形 23"/>
            <p:cNvSpPr/>
            <p:nvPr/>
          </p:nvSpPr>
          <p:spPr>
            <a:xfrm rot="21370800">
              <a:off x="7022880" y="1753920"/>
              <a:ext cx="199800" cy="171360"/>
            </a:xfrm>
            <a:prstGeom prst="triangle">
              <a:avLst>
                <a:gd name="adj" fmla="val 50000"/>
              </a:avLst>
            </a:prstGeom>
            <a:solidFill>
              <a:srgbClr val="5ab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7" name="等腰三角形 24"/>
            <p:cNvSpPr/>
            <p:nvPr/>
          </p:nvSpPr>
          <p:spPr>
            <a:xfrm rot="12912000">
              <a:off x="7611840" y="3001680"/>
              <a:ext cx="704880" cy="609480"/>
            </a:xfrm>
            <a:prstGeom prst="triangle">
              <a:avLst>
                <a:gd name="adj" fmla="val 50000"/>
              </a:avLst>
            </a:pr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8" name="等腰三角形 25"/>
            <p:cNvSpPr/>
            <p:nvPr/>
          </p:nvSpPr>
          <p:spPr>
            <a:xfrm rot="12912000">
              <a:off x="7513200" y="2957040"/>
              <a:ext cx="878040" cy="7570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09" name="椭圆 26"/>
            <p:cNvSpPr/>
            <p:nvPr/>
          </p:nvSpPr>
          <p:spPr>
            <a:xfrm rot="9109800">
              <a:off x="8499240" y="3230640"/>
              <a:ext cx="85680" cy="85680"/>
            </a:xfrm>
            <a:prstGeom prst="ellipse">
              <a:avLst/>
            </a:pr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0" name="椭圆 27"/>
            <p:cNvSpPr/>
            <p:nvPr/>
          </p:nvSpPr>
          <p:spPr>
            <a:xfrm rot="9109800">
              <a:off x="7686720" y="3605400"/>
              <a:ext cx="87120" cy="87120"/>
            </a:xfrm>
            <a:prstGeom prst="ellipse">
              <a:avLst/>
            </a:pr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1" name="椭圆 28"/>
            <p:cNvSpPr/>
            <p:nvPr/>
          </p:nvSpPr>
          <p:spPr>
            <a:xfrm rot="9109800">
              <a:off x="7773480" y="2736720"/>
              <a:ext cx="85680" cy="87120"/>
            </a:xfrm>
            <a:prstGeom prst="ellipse">
              <a:avLst/>
            </a:pr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2" name="等腰三角形 29"/>
            <p:cNvSpPr/>
            <p:nvPr/>
          </p:nvSpPr>
          <p:spPr>
            <a:xfrm rot="18210000">
              <a:off x="6910200" y="2012760"/>
              <a:ext cx="95040" cy="82440"/>
            </a:xfrm>
            <a:prstGeom prst="triangle">
              <a:avLst>
                <a:gd name="adj" fmla="val 50000"/>
              </a:avLst>
            </a:prstGeom>
            <a:solidFill>
              <a:srgbClr val="c8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3" name="等腰三角形 30"/>
            <p:cNvSpPr/>
            <p:nvPr/>
          </p:nvSpPr>
          <p:spPr>
            <a:xfrm rot="8748000">
              <a:off x="6984360" y="2134800"/>
              <a:ext cx="96840" cy="80640"/>
            </a:xfrm>
            <a:prstGeom prst="triangle">
              <a:avLst>
                <a:gd name="adj" fmla="val 50000"/>
              </a:avLst>
            </a:prstGeom>
            <a:solidFill>
              <a:srgbClr val="91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A48-C109-4998-AC3E-B4AEFEB09857}" type="slidenum">
              <a:rPr b="0" lang="zh-CN" sz="1200" spc="-1" strike="noStrike">
                <a:solidFill>
                  <a:srgbClr val="ababa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12"/>
          <p:cNvGrpSpPr/>
          <p:nvPr/>
        </p:nvGrpSpPr>
        <p:grpSpPr>
          <a:xfrm>
            <a:off x="7400880" y="6091560"/>
            <a:ext cx="1743120" cy="766440"/>
            <a:chOff x="7400880" y="6091560"/>
            <a:chExt cx="1743120" cy="766440"/>
          </a:xfrm>
        </p:grpSpPr>
        <p:sp>
          <p:nvSpPr>
            <p:cNvPr id="156" name="等腰三角形 6"/>
            <p:cNvSpPr/>
            <p:nvPr/>
          </p:nvSpPr>
          <p:spPr>
            <a:xfrm rot="10800000">
              <a:off x="7574040" y="6187680"/>
              <a:ext cx="1569960" cy="67032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57" name="直接连接符 14"/>
            <p:cNvSpPr/>
            <p:nvPr/>
          </p:nvSpPr>
          <p:spPr>
            <a:xfrm flipH="1">
              <a:off x="7400880" y="6091560"/>
              <a:ext cx="1737000" cy="74484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grpSp>
        <p:nvGrpSpPr>
          <p:cNvPr id="158" name="组合 15"/>
          <p:cNvGrpSpPr/>
          <p:nvPr/>
        </p:nvGrpSpPr>
        <p:grpSpPr>
          <a:xfrm>
            <a:off x="0" y="0"/>
            <a:ext cx="1743120" cy="766800"/>
            <a:chOff x="0" y="0"/>
            <a:chExt cx="1743120" cy="766800"/>
          </a:xfrm>
        </p:grpSpPr>
        <p:sp>
          <p:nvSpPr>
            <p:cNvPr id="159" name="等腰三角形 6"/>
            <p:cNvSpPr/>
            <p:nvPr/>
          </p:nvSpPr>
          <p:spPr>
            <a:xfrm>
              <a:off x="0" y="0"/>
              <a:ext cx="1567080" cy="673200"/>
            </a:xfrm>
            <a:custGeom>
              <a:avLst/>
              <a:gdLst/>
              <a:ahLst/>
              <a:rect l="l" t="t" r="r" b="b"/>
              <a:pathLst>
                <a:path w="2392680" h="1026414">
                  <a:moveTo>
                    <a:pt x="0" y="1026414"/>
                  </a:moveTo>
                  <a:cubicBezTo>
                    <a:pt x="1355" y="682159"/>
                    <a:pt x="2709" y="344255"/>
                    <a:pt x="4064" y="0"/>
                  </a:cubicBezTo>
                  <a:lnTo>
                    <a:pt x="2392680" y="762"/>
                  </a:lnTo>
                  <a:lnTo>
                    <a:pt x="0" y="1026414"/>
                  </a:lnTo>
                  <a:close/>
                </a:path>
              </a:pathLst>
            </a:custGeom>
            <a:solidFill>
              <a:srgbClr val="018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60" name="直接连接符 17"/>
            <p:cNvSpPr/>
            <p:nvPr/>
          </p:nvSpPr>
          <p:spPr>
            <a:xfrm flipV="1">
              <a:off x="9360" y="18720"/>
              <a:ext cx="1733760" cy="748080"/>
            </a:xfrm>
            <a:prstGeom prst="line">
              <a:avLst/>
            </a:prstGeom>
            <a:ln w="57240">
              <a:solidFill>
                <a:srgbClr val="018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61" name="直角三角形 12"/>
          <p:cNvSpPr/>
          <p:nvPr/>
        </p:nvSpPr>
        <p:spPr>
          <a:xfrm rot="20063400">
            <a:off x="1325160" y="3755520"/>
            <a:ext cx="587520" cy="252720"/>
          </a:xfrm>
          <a:prstGeom prst="rtTriangle">
            <a:avLst/>
          </a:prstGeom>
          <a:solidFill>
            <a:srgbClr val="0168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直角三角形 15"/>
          <p:cNvSpPr/>
          <p:nvPr/>
        </p:nvSpPr>
        <p:spPr>
          <a:xfrm rot="7409400">
            <a:off x="3030120" y="4041720"/>
            <a:ext cx="279360" cy="282600"/>
          </a:xfrm>
          <a:prstGeom prst="rtTriangle">
            <a:avLst/>
          </a:prstGeom>
          <a:solidFill>
            <a:srgbClr val="5ab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直角三角形 18"/>
          <p:cNvSpPr/>
          <p:nvPr/>
        </p:nvSpPr>
        <p:spPr>
          <a:xfrm rot="17352000">
            <a:off x="2604600" y="4846320"/>
            <a:ext cx="184320" cy="187200"/>
          </a:xfrm>
          <a:prstGeom prst="rtTriangle">
            <a:avLst/>
          </a:prstGeom>
          <a:solidFill>
            <a:srgbClr val="0168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" name="直角三角形 19"/>
          <p:cNvSpPr/>
          <p:nvPr/>
        </p:nvSpPr>
        <p:spPr>
          <a:xfrm rot="17352000">
            <a:off x="2007720" y="5068080"/>
            <a:ext cx="95400" cy="73080"/>
          </a:xfrm>
          <a:prstGeom prst="rtTriangle">
            <a:avLst/>
          </a:prstGeom>
          <a:solidFill>
            <a:srgbClr val="018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直角三角形 20"/>
          <p:cNvSpPr/>
          <p:nvPr/>
        </p:nvSpPr>
        <p:spPr>
          <a:xfrm rot="11413200">
            <a:off x="5930640" y="4649760"/>
            <a:ext cx="261720" cy="131760"/>
          </a:xfrm>
          <a:prstGeom prst="rtTriangle">
            <a:avLst/>
          </a:prstGeom>
          <a:solidFill>
            <a:srgbClr val="018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6" name="直角三角形 21"/>
          <p:cNvSpPr/>
          <p:nvPr/>
        </p:nvSpPr>
        <p:spPr>
          <a:xfrm rot="18286800">
            <a:off x="5568120" y="4110480"/>
            <a:ext cx="185760" cy="285840"/>
          </a:xfrm>
          <a:prstGeom prst="rtTriangle">
            <a:avLst/>
          </a:prstGeom>
          <a:solidFill>
            <a:srgbClr val="91d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7" name="直角三角形 22"/>
          <p:cNvSpPr/>
          <p:nvPr/>
        </p:nvSpPr>
        <p:spPr>
          <a:xfrm rot="16200000">
            <a:off x="7620840" y="2032560"/>
            <a:ext cx="111240" cy="284040"/>
          </a:xfrm>
          <a:prstGeom prst="rtTriangle">
            <a:avLst/>
          </a:prstGeom>
          <a:solidFill>
            <a:srgbClr val="5ab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直角三角形 23"/>
          <p:cNvSpPr/>
          <p:nvPr/>
        </p:nvSpPr>
        <p:spPr>
          <a:xfrm rot="16200000">
            <a:off x="6730920" y="1442880"/>
            <a:ext cx="54000" cy="136440"/>
          </a:xfrm>
          <a:prstGeom prst="rtTriangle">
            <a:avLst/>
          </a:prstGeom>
          <a:solidFill>
            <a:srgbClr val="0168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" name="直接连接符 24"/>
          <p:cNvSpPr/>
          <p:nvPr/>
        </p:nvSpPr>
        <p:spPr>
          <a:xfrm flipV="1">
            <a:off x="2122560" y="4243320"/>
            <a:ext cx="809640" cy="357120"/>
          </a:xfrm>
          <a:prstGeom prst="line">
            <a:avLst/>
          </a:prstGeom>
          <a:ln w="6480">
            <a:solidFill>
              <a:srgbClr val="5ab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" name="直接连接符 25"/>
          <p:cNvSpPr/>
          <p:nvPr/>
        </p:nvSpPr>
        <p:spPr>
          <a:xfrm flipV="1">
            <a:off x="1803240" y="4255560"/>
            <a:ext cx="1409760" cy="621000"/>
          </a:xfrm>
          <a:prstGeom prst="line">
            <a:avLst/>
          </a:prstGeom>
          <a:ln w="6480">
            <a:solidFill>
              <a:srgbClr val="5ab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直接连接符 26"/>
          <p:cNvSpPr/>
          <p:nvPr/>
        </p:nvSpPr>
        <p:spPr>
          <a:xfrm flipV="1">
            <a:off x="5830920" y="1617480"/>
            <a:ext cx="811080" cy="355320"/>
          </a:xfrm>
          <a:prstGeom prst="line">
            <a:avLst/>
          </a:prstGeom>
          <a:ln w="6480">
            <a:solidFill>
              <a:srgbClr val="5ab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直接连接符 27"/>
          <p:cNvSpPr/>
          <p:nvPr/>
        </p:nvSpPr>
        <p:spPr>
          <a:xfrm flipV="1">
            <a:off x="6243480" y="1375920"/>
            <a:ext cx="1408320" cy="622440"/>
          </a:xfrm>
          <a:prstGeom prst="line">
            <a:avLst/>
          </a:prstGeom>
          <a:ln w="6480">
            <a:solidFill>
              <a:srgbClr val="5ab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C0F3-6A2F-4229-B4AE-2F2B1884AC3C}" type="slidenum">
              <a:rPr b="0" lang="zh-CN" sz="1200" spc="-1" strike="noStrike">
                <a:solidFill>
                  <a:srgbClr val="ababa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8be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F09-1109-4939-AFF8-D55713B4E345}" type="slidenum">
              <a:rPr b="0" lang="zh-CN" sz="1200" spc="-1" strike="noStrike">
                <a:solidFill>
                  <a:srgbClr val="ababa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29040" y="1122480"/>
            <a:ext cx="5486400" cy="19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168af"/>
                </a:solidFill>
                <a:latin typeface="微软雅黑"/>
                <a:ea typeface="微软雅黑"/>
              </a:rPr>
              <a:t>新闻采访</a:t>
            </a:r>
            <a:r>
              <a:rPr b="0" lang="zh-CN" sz="54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与</a:t>
            </a: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写作</a:t>
            </a:r>
            <a:endParaRPr b="0" lang="en-US" sz="54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029040" y="335592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1d28"/>
                </a:solidFill>
                <a:latin typeface="Arial"/>
              </a:rPr>
              <a:t>第一单元写作指导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223920" y="719280"/>
            <a:ext cx="86961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47680" y="712800"/>
            <a:ext cx="8648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90520" y="704880"/>
            <a:ext cx="85629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228600" y="1004760"/>
            <a:ext cx="8686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62080" y="525600"/>
            <a:ext cx="861984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71440" y="800280"/>
            <a:ext cx="86011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47680" y="700200"/>
            <a:ext cx="86486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04920" y="1017720"/>
            <a:ext cx="85341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409680" y="371520"/>
            <a:ext cx="840096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1"/>
          <a:srcRect l="0" t="0" r="0" b="73732"/>
          <a:stretch/>
        </p:blipFill>
        <p:spPr>
          <a:xfrm>
            <a:off x="488880" y="230040"/>
            <a:ext cx="8166240" cy="419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rcRect l="0" t="0" r="0" b="82513"/>
          <a:stretch/>
        </p:blipFill>
        <p:spPr>
          <a:xfrm>
            <a:off x="488880" y="1366920"/>
            <a:ext cx="8166240" cy="444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488880" y="3424320"/>
            <a:ext cx="8166240" cy="1028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"/>
          <p:cNvPicPr/>
          <p:nvPr/>
        </p:nvPicPr>
        <p:blipFill>
          <a:blip r:embed="rId4"/>
          <a:srcRect l="0" t="36284" r="0" b="41012"/>
          <a:stretch/>
        </p:blipFill>
        <p:spPr>
          <a:xfrm>
            <a:off x="488880" y="649440"/>
            <a:ext cx="8166240" cy="36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" descr=""/>
          <p:cNvPicPr/>
          <p:nvPr/>
        </p:nvPicPr>
        <p:blipFill>
          <a:blip r:embed="rId5"/>
          <a:srcRect l="0" t="71734" r="0" b="0"/>
          <a:stretch/>
        </p:blipFill>
        <p:spPr>
          <a:xfrm>
            <a:off x="488880" y="1011240"/>
            <a:ext cx="8166240" cy="45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6"/>
          <a:srcRect l="0" t="23769" r="0" b="0"/>
          <a:stretch/>
        </p:blipFill>
        <p:spPr>
          <a:xfrm>
            <a:off x="488880" y="1811160"/>
            <a:ext cx="8166240" cy="1613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" descr=""/>
          <p:cNvPicPr/>
          <p:nvPr/>
        </p:nvPicPr>
        <p:blipFill>
          <a:blip r:embed="rId7">
            <a:alphaModFix amt="56000"/>
          </a:blip>
          <a:stretch/>
        </p:blipFill>
        <p:spPr>
          <a:xfrm>
            <a:off x="488880" y="4452840"/>
            <a:ext cx="8166240" cy="2184480"/>
          </a:xfrm>
          <a:prstGeom prst="rect">
            <a:avLst/>
          </a:prstGeom>
          <a:ln w="47520">
            <a:solidFill>
              <a:srgbClr val="0165ab"/>
            </a:solidFill>
            <a:prstDash val="sysDash"/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8be9"/>
                </a:solidFill>
                <a:latin typeface="Arial"/>
              </a:rPr>
              <a:t>新闻采访</a:t>
            </a:r>
            <a:endParaRPr b="0" lang="en-US" sz="44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57120" y="1344240"/>
            <a:ext cx="8640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Arial"/>
              </a:rPr>
              <a:t>有关术语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25600" y="1892160"/>
          <a:ext cx="8254800" cy="2895480"/>
        </p:xfrm>
        <a:graphic>
          <a:graphicData uri="http://schemas.openxmlformats.org/drawingml/2006/table">
            <a:tbl>
              <a:tblPr/>
              <a:tblGrid>
                <a:gridCol w="1517400"/>
                <a:gridCol w="673740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术语</a:t>
                      </a:r>
                      <a:endParaRPr b="0" lang="en-US" sz="28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b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简要释义</a:t>
                      </a:r>
                      <a:endParaRPr b="0" lang="en-US" sz="28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18be9"/>
                    </a:solidFill>
                  </a:tcPr>
                </a:tc>
              </a:tr>
              <a:tr h="12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新闻采访</a:t>
                      </a: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a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记者为获取适于传播的新闻事实而进行的观察、询问、思索、倾听、查阅、记录等工作，它是新闻写作的基础。</a:t>
                      </a: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af7"/>
                    </a:solidFill>
                  </a:tcPr>
                </a:tc>
              </a:tr>
              <a:tr h="102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新闻敏感</a:t>
                      </a: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指迅速、准确地识别新闻事实，判断其新闻价值的能力，也被形象地称为</a:t>
                      </a:r>
                      <a:r>
                        <a:rPr b="0" lang="en-US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新闻眼</a:t>
                      </a:r>
                      <a:r>
                        <a:rPr b="0" lang="en-US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”“</a:t>
                      </a:r>
                      <a:r>
                        <a:rPr b="0" lang="zh-CN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新闻鼻</a:t>
                      </a:r>
                      <a:r>
                        <a:rPr b="0" lang="en-US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071d28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7f7f7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e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409680" y="498600"/>
            <a:ext cx="8400960" cy="55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473040" y="512640"/>
            <a:ext cx="833760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392040" y="733320"/>
            <a:ext cx="841860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987480" y="1191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实战演练</a:t>
            </a:r>
            <a:endParaRPr b="0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266760" y="826920"/>
            <a:ext cx="82296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你所在的班级、学校，或者你居住的社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区、村镇、县市，最近发生了什么特别的或者有意思的事情？尽可能多方调查、采访，采集相关信息，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写一则消息。不少于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300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字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【点拨思路】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审题：注意题目限定了文体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消息，也限定了选材的范围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你所在的班级、学校，或者你居住的社区、村镇、县市，要从这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几个方面来思考选材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选材：可以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选择班上或学校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近期开展的各类活动，如体育活动、科学探究活动、文艺会演活动等；社区、村镇等开展的各种特别的或有意思的活动等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写法：按照消息的基本结构布局谋篇，结构要完整，中心事件要突出，语言要简洁，必要时可以交代一下背景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2"/>
          <p:cNvSpPr/>
          <p:nvPr/>
        </p:nvSpPr>
        <p:spPr>
          <a:xfrm>
            <a:off x="304920" y="1143000"/>
            <a:ext cx="853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．标题：标题是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消息的眼睛。要让别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人关注你的报道，标题就一定要醒目，特别是主标题，要让人看后一目了然。消息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标题的要素必须包括何人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何物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做何事，语言必须简洁准确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．导语：导语是指一则消息的第一段或第一句。它是用简明生动的文字，写出消息中最主要、最新鲜的事实，鲜明地揭示消息的主题思想。导语的写作要求，一是抓住事情的核心，二是要吸引读者。导语的形式主要有叙述式、描写式、提问式、结论式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．主体：主体是消息的躯干，是对导语内容的展开和补充。现在，一般的消息都采用倒金字塔结构，即将最重要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的、最新鲜的事实写在最前面，让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人们能看一眼就知道它主要讲的是什么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因此，我们在写作消息的时候，要具体掌握消息的结构特点，勤于观察和思考，这样才能写出高质量的新闻消息。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1371600" y="380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写法指导】</a:t>
            </a: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7920" y="704520"/>
            <a:ext cx="7886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8be9"/>
                </a:solidFill>
                <a:latin typeface="Arial"/>
              </a:rPr>
              <a:t>新闻写作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18be9"/>
                </a:solidFill>
                <a:latin typeface="Arial"/>
              </a:rPr>
              <a:t>新闻采访</a:t>
            </a:r>
            <a:endParaRPr b="0" lang="en-US" sz="40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65040" y="1463400"/>
            <a:ext cx="8413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思考与讨论：</a:t>
            </a:r>
            <a:r>
              <a:rPr b="0" lang="en-US" sz="2400" spc="-1" strike="noStrike">
                <a:solidFill>
                  <a:srgbClr val="071d28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新闻采访</a:t>
            </a:r>
            <a:r>
              <a:rPr b="0" lang="en-US" sz="2400" spc="-1" strike="noStrike">
                <a:solidFill>
                  <a:srgbClr val="071d28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包括哪些发现、收集新闻的方式？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最主要的采访方式是现场访谈，但还包括观察、调查、材料收集、笔录、摄影、摄像、录音等方式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71d28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《一着京海天》（通讯）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观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舰载机的飞行状况、着舰后人群的反应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记录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航母与舰载机之间的通话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材料收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航母舰载机的着舰难度、</a:t>
            </a:r>
            <a:r>
              <a:rPr b="0" lang="en-US" sz="2400" spc="-1" strike="noStrike">
                <a:solidFill>
                  <a:srgbClr val="071d28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某大国一名上将</a:t>
            </a:r>
            <a:r>
              <a:rPr b="0" lang="en-US" sz="2400" spc="-1" strike="noStrike">
                <a:solidFill>
                  <a:srgbClr val="071d28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的话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507600"/>
            <a:ext cx="78868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8be9"/>
                </a:solidFill>
                <a:latin typeface="Arial"/>
              </a:rPr>
              <a:t>一般流程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0" lang="zh-CN" sz="3600" spc="-1" strike="noStrike">
                <a:solidFill>
                  <a:srgbClr val="018be9"/>
                </a:solidFill>
                <a:latin typeface="Arial"/>
              </a:rPr>
              <a:t>注意事项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pic>
        <p:nvPicPr>
          <p:cNvPr id="263" name="图示 4" descr=""/>
          <p:cNvPicPr/>
          <p:nvPr/>
        </p:nvPicPr>
        <p:blipFill>
          <a:blip r:embed="rId1"/>
          <a:stretch/>
        </p:blipFill>
        <p:spPr>
          <a:xfrm>
            <a:off x="501480" y="1254240"/>
            <a:ext cx="8193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8be9"/>
                </a:solidFill>
                <a:latin typeface="楷体_GB2312"/>
                <a:ea typeface="楷体_GB2312"/>
              </a:rPr>
              <a:t>前期准备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3586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确定采访主题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</a:rPr>
              <a:t>。通过研究分析，找准热点、关键点，确定采访主题。主题应有价值、有深度、有新意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选择、联系采访对象</a:t>
            </a:r>
            <a:r>
              <a:rPr b="0" lang="zh-CN" sz="2400" spc="-1" strike="noStrike">
                <a:solidFill>
                  <a:srgbClr val="002060"/>
                </a:solidFill>
                <a:latin typeface="Arial"/>
              </a:rPr>
              <a:t>。确定主题后，从专业背景、个人经历、身份性格等方面慎选择采访对象。确定后，与之联络，说明采访主题、目标等，发出邀请。约定采访时间、地点等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收集相关资料，拟出采访提纲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</a:rPr>
              <a:t>。围绕采访主题和对象，收集与之相关资料，分析、研究。拟出采访提纲，保证采访效果。（采访提纲见书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P13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507960"/>
            <a:ext cx="7886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8be9"/>
                </a:solidFill>
                <a:latin typeface="Arial"/>
              </a:rPr>
              <a:t>现场问答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449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守时赴约，注意仪表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彬彬有礼，机智倾听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有效提问，讲究技巧。</a:t>
            </a:r>
            <a:r>
              <a:rPr b="0" lang="zh-CN" sz="2400" spc="-1" strike="noStrike">
                <a:solidFill>
                  <a:srgbClr val="071d28"/>
                </a:solidFill>
                <a:latin typeface="Arial"/>
              </a:rPr>
              <a:t>①提问应紧扣采访主题，多个角度与层面设问；②要有逻辑性，可由浅入深或有主到次；③问题要分门别类，一一提出；④语言要简洁清晰、准确精练；⑤问题要主旨清晰，范围适中，要求明确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过程流畅，轻松自由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做好记录，重视笔录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200" y="348840"/>
            <a:ext cx="4118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8be9"/>
                </a:solidFill>
                <a:latin typeface="Arial"/>
              </a:rPr>
              <a:t>后期整理</a:t>
            </a:r>
            <a:endParaRPr b="0" lang="en-US" sz="36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3680" y="1090080"/>
            <a:ext cx="7686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30000"/>
              </a:lnSpc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整理材料，去粗存精。</a:t>
            </a:r>
            <a:r>
              <a:rPr b="0" lang="zh-CN" sz="3200" spc="-1" strike="noStrike">
                <a:solidFill>
                  <a:srgbClr val="7f7f7f"/>
                </a:solidFill>
                <a:latin typeface="Arial"/>
              </a:rPr>
              <a:t>对相关材料去粗存精，选择重点。不仅要疏通文字，还要补充核实材料。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文本框 6"/>
          <p:cNvSpPr/>
          <p:nvPr/>
        </p:nvSpPr>
        <p:spPr>
          <a:xfrm>
            <a:off x="52560" y="3538440"/>
            <a:ext cx="795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30000"/>
              </a:lnSpc>
              <a:spcBef>
                <a:spcPts val="1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成果确认，保持联系。</a:t>
            </a:r>
            <a:r>
              <a:rPr b="0" lang="zh-CN" sz="3200" spc="-1" strike="noStrike">
                <a:solidFill>
                  <a:srgbClr val="7f7f7f"/>
                </a:solidFill>
                <a:latin typeface="Arial"/>
                <a:ea typeface="黑体"/>
              </a:rPr>
              <a:t>相关新闻作品发表前，采访者应将作品交采访对象确认，这样不仅可避免误解、曲解对方的言论，也能补充、调整自己言论的机会。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6560" y="2852280"/>
            <a:ext cx="352908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18be9"/>
                </a:solidFill>
                <a:latin typeface="Arial"/>
              </a:rPr>
              <a:t>新闻内容要素</a:t>
            </a:r>
            <a:endParaRPr b="0" lang="en-US" sz="3400" spc="-1" strike="noStrike">
              <a:solidFill>
                <a:srgbClr val="018be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55640" y="3581280"/>
            <a:ext cx="8083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时间、地点、人物、事件的起因、经过、结果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3" name="文本框 57348"/>
          <p:cNvSpPr/>
          <p:nvPr/>
        </p:nvSpPr>
        <p:spPr>
          <a:xfrm>
            <a:off x="731880" y="1860480"/>
            <a:ext cx="735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Verdana"/>
              </a:rPr>
              <a:t>狭义：指消息。广义：包括消息、通讯、报告文学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4" name="文本框 57349"/>
          <p:cNvSpPr/>
          <p:nvPr/>
        </p:nvSpPr>
        <p:spPr>
          <a:xfrm>
            <a:off x="465120" y="476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新闻的特点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5" name="文本框 57350"/>
          <p:cNvSpPr/>
          <p:nvPr/>
        </p:nvSpPr>
        <p:spPr>
          <a:xfrm>
            <a:off x="2627280" y="4191120"/>
            <a:ext cx="165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真实性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及时性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简洁性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6" name="左大括号 57351"/>
          <p:cNvSpPr/>
          <p:nvPr/>
        </p:nvSpPr>
        <p:spPr>
          <a:xfrm>
            <a:off x="2403360" y="444168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文本框 57352"/>
          <p:cNvSpPr/>
          <p:nvPr/>
        </p:nvSpPr>
        <p:spPr>
          <a:xfrm>
            <a:off x="3879720" y="4206960"/>
            <a:ext cx="48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Verdana"/>
              </a:rPr>
              <a:t>内容真实准确，不能虚构夸张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8" name="文本框 57353"/>
          <p:cNvSpPr/>
          <p:nvPr/>
        </p:nvSpPr>
        <p:spPr>
          <a:xfrm>
            <a:off x="3894120" y="476244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Verdana"/>
              </a:rPr>
              <a:t>报道迅速及时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9" name="文本框 57354"/>
          <p:cNvSpPr/>
          <p:nvPr/>
        </p:nvSpPr>
        <p:spPr>
          <a:xfrm>
            <a:off x="3995640" y="532440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Verdana"/>
              </a:rPr>
              <a:t>语言简明扼要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0" name="矩形 57355"/>
          <p:cNvSpPr/>
          <p:nvPr/>
        </p:nvSpPr>
        <p:spPr>
          <a:xfrm>
            <a:off x="755640" y="2112840"/>
            <a:ext cx="69850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8ad7"/>
                </a:solidFill>
                <a:latin typeface="Verdana"/>
              </a:rPr>
              <a:t>新闻多采用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记叙</a:t>
            </a:r>
            <a:r>
              <a:rPr b="1" lang="zh-CN" sz="2400" spc="-1" strike="noStrike">
                <a:solidFill>
                  <a:srgbClr val="7f7f7f"/>
                </a:solidFill>
                <a:latin typeface="Verdana"/>
              </a:rPr>
              <a:t>的表达方式，兼有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议论</a:t>
            </a:r>
            <a:r>
              <a:rPr b="1" lang="zh-CN" sz="2400" spc="-1" strike="noStrike">
                <a:solidFill>
                  <a:srgbClr val="438ad7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1D5-9333-429D-A7A3-618186DB5FD4}" type="datetime">
              <a:rPr b="0" lang="zh-CN" sz="1200" spc="-1" strike="noStrike">
                <a:solidFill>
                  <a:srgbClr val="ababa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558-5F91-461B-BEE2-3AE36B162213}" type="slidenum">
              <a:rPr b="0" lang="zh-CN" sz="1200" spc="-1" strike="noStrike">
                <a:solidFill>
                  <a:srgbClr val="ababa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3" name="标题 1"/>
          <p:cNvSpPr/>
          <p:nvPr/>
        </p:nvSpPr>
        <p:spPr>
          <a:xfrm>
            <a:off x="1355760" y="222120"/>
            <a:ext cx="461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8be9"/>
                </a:solidFill>
                <a:latin typeface="Arial"/>
              </a:rPr>
              <a:t>新闻写作</a:t>
            </a:r>
            <a:endParaRPr b="0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4" name="文本框 5"/>
          <p:cNvSpPr/>
          <p:nvPr/>
        </p:nvSpPr>
        <p:spPr>
          <a:xfrm>
            <a:off x="957960" y="1019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什么是新闻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18433"/>
          <p:cNvSpPr/>
          <p:nvPr/>
        </p:nvSpPr>
        <p:spPr>
          <a:xfrm>
            <a:off x="285840" y="144360"/>
            <a:ext cx="81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新闻的结构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6" name="文本框 18434"/>
          <p:cNvSpPr/>
          <p:nvPr/>
        </p:nvSpPr>
        <p:spPr>
          <a:xfrm>
            <a:off x="285840" y="723960"/>
            <a:ext cx="88581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标题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：高度概括已经发生的新闻事实。必须</a:t>
            </a:r>
            <a:r>
              <a:rPr b="1" lang="zh-CN" sz="2400" spc="-1" strike="noStrike">
                <a:solidFill>
                  <a:srgbClr val="1115ab"/>
                </a:solidFill>
                <a:latin typeface="仿宋_GB2312"/>
                <a:ea typeface="仿宋_GB2312"/>
              </a:rPr>
              <a:t>简明、准确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地概括消息内容，帮助读者理解报道的事实。一般包括引题、主题、副题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导语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：是消息的第一段或者第一句话。是消息中最主要的事实，是最重要、最有影响力的材料，是本则消息报道的价值所在。 导语的要求： 一是要抓住事情的核心，二是要能吸引读者看下去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主体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：是消息的主干部分。承接导语之后，对导语作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具体全面的阐述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，具体展开事实或进一步突出中心，从而写出导语的所概括的内容，表现全篇消息的主题思想。应按“时间顺序”或“逻辑顺序”写作，但仍然要先主要的、再写次要的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背景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：是新闻事实发生的历史条件或现实环境。 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结语</a:t>
            </a:r>
            <a:r>
              <a:rPr b="1" lang="zh-CN" sz="2400" spc="-1" strike="noStrike">
                <a:solidFill>
                  <a:srgbClr val="7f7f7f"/>
                </a:solidFill>
                <a:latin typeface="仿宋_GB2312"/>
                <a:ea typeface="仿宋_GB2312"/>
              </a:rPr>
              <a:t>：是消息的最后一段落或最后一句话。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2T10:23:28Z</dcterms:created>
  <dc:creator/>
  <dc:description/>
  <dc:language>en-US</dc:language>
  <cp:lastModifiedBy>happy</cp:lastModifiedBy>
  <dcterms:modified xsi:type="dcterms:W3CDTF">2018-02-14T10:21:1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